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9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7DE-DCE4-4B2C-A562-B0DC7291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3AAB-E921-4864-B023-E6928917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0CBB3A-7B4E-4A7A-B396-6D9628BD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CD7588-E4C6-4DBF-910A-B552E347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613CA0-421D-499C-8F4C-C909BEDF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8B9579-F053-4537-8567-E8F8B656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814C41-1009-4E87-BBE0-EFF97A65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0508F4-5C18-4928-ABA5-43A4E36D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CDFBAC-5868-4DD9-9FD0-D349A38B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1C6B7D-4D93-45E5-B226-48C3B6F6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F6FA83-3C24-4DB5-9179-C17FBD79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6CE3D-6A04-46B5-9667-7942845B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BA1D-8079-4307-ACBB-71CB10FF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0C00E-A1EB-478D-9F39-6CAEE1AB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6CB29-EB6E-4DAB-B8DD-9E002071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A1A02-FEF3-458C-AA48-05F1C288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2CE3D-8117-46CD-901F-AB747E85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E869A-CB27-4B3A-8ACD-70C21B4F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A3D99-9205-4B41-BB9D-39943A72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33640-7141-4620-AD7E-167E412F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0D824-5EAC-43E0-B9CB-34E7CEAA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C00FB-B7BD-4B70-A094-094CF0EA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2DC1E-E0C1-40DB-9418-651B8515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2A4E-67DB-4270-9AAF-93A30D27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CA478-F20C-45E9-8348-C9A253FB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61476-FDBA-4D14-BC22-493AF2D3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8439D-2659-4971-9D55-4E2149B3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EAA32-10C7-4CFB-BB78-C8E0A022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B6D18-8221-4BEF-9558-1B3B92E4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4646D-CD32-44A1-AE62-627F07AC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5FE27-52E6-441B-8C2F-2C86A8DF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7E522-9253-442D-99DA-A740195D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23945-8559-48AA-986F-8785E98E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1E709-EDF3-40B9-BE60-9E996FF6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E45D-9019-4731-847E-35C14A26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FF5B8-912B-468D-9692-82F503DB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6AB44-99DC-41F4-9AD8-CDCCEE82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EEC3F-9D33-40F0-99D8-55E78F35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D2FA4-BD26-414D-8F5F-5ED9A330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8DA94-5A5B-42F9-A519-15FDEF78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4FF40-1835-4DB2-9BDB-2709CD51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F71E5-4EA2-4E5B-A5D5-5B5080CA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C8DEA-8FB2-4AA2-BB29-203D83E8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5F487-4CCA-41E4-9AC9-A1E013C7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86925-E48A-44DE-AD2A-2A092344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20AE-1413-4748-A2DD-785D2461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AFB5D-799A-4C0C-8EC3-C8956F9C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6F632-8E01-4C48-86DB-85473D27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87BD9-F9FF-4CE6-8953-CA3AC807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ECC91-3AD0-49E5-9E89-8A362A5E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EB391-8A0B-4DA7-AA1F-87694C60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4515-8CB6-450B-A653-64D4353A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03A9-80E3-48B8-A5E6-7B31EFF9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4F3D-D415-46F1-9749-1D1E3659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F612-D3B4-4296-98E0-54A08B85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395C-00EA-42DF-86C5-703DE99B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5A46-1BB4-4F7D-B5B5-D1FAD01E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29C8-C95D-4320-B4EE-D09583CF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8856-819E-48A2-A0D5-09C42C11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AD8F-4A27-4815-81A8-56B0ACB7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CE73-206A-4256-96EF-5BBA3074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C6CA-E792-457F-821D-D60D9EC9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51A5C-D7C5-46D9-B77E-6E7E6DBA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0654B-18BD-4C11-AABB-AA32D4C2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26644-8667-45B3-8A22-8570D3EB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8081B-4243-4F38-9700-BD50FF1D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1CE49-7E2C-435F-870F-411AB786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1595-1458-41A4-A1F4-BE870D2C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486D9-C49E-4044-A069-489ACAB9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E2C9B-A628-436A-BE07-7AC91198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C6BB2-B6FD-4009-BC2F-1DC4CD78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52263-D0B8-4985-ABD4-60ED726F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63408-9CB7-4336-B0F6-42FB994C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F65D0-BC05-4034-8E74-E2D7FD3C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D7B6B-0227-4A0B-B145-48C7E5C1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F3EE1-D053-4BE1-997D-50A51836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9DB0D-B8E1-40E2-AD8F-5C065CE8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BB110-C81C-48F6-A2CF-D32C3542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191-C09A-4BF5-97D3-136AAD5C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299BD-699F-4984-8C5F-201C3A35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E3E5F-3DC0-423A-8D04-F8537D20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68A7A-A2B8-4142-8948-24484F7C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CEE72-0F0A-4422-803F-97DAA8B4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1CAF8-97C3-4C40-A840-D7859316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52A55-DB09-4C33-AA3E-4193877C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B89C2-20BD-4771-9B6E-D4A0D939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6E5C6-122F-471A-A0F4-F0E29382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851F2-FCCD-4D4D-B5D8-44E395F3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548B7-11C5-4D90-9895-EABB84BD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6DC9-E13F-4630-83CE-07E3AD24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DCD14-0E2B-4D0E-91BE-332C9C46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F74D0-5891-4963-866A-D38803AB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75E8F-69D6-4A65-8881-1208F6CB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63811-6117-437D-8906-6C9F77E5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33AA0-0EB4-4DFD-8D26-F960F7A2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1783F-509C-4027-A573-2F02BF6F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9C385-07E7-42DE-A810-A44AAAEC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DD656-2B0C-4A43-9D1D-27FCB083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E7A14-19EC-4DA3-BB7F-E8C2066C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AA17F-D8D3-4EF5-8141-6181F882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3569-45A4-4558-9E81-17FC4D61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97B0A-81CF-4E68-BA5C-F68A573D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F2064-A22E-45BE-AEC4-2582EE4E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6AC9B-9F10-4A38-AF94-7719A200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E2A66-F70A-49AC-99E6-9CF25A2F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644B7-E249-42DF-BF00-FA7DE3FD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51092-792B-4AC0-B587-73EF9989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46DDD-B944-4298-99D6-FAE79F17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F5542-5914-4918-BA4C-C8156F61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A3012-EB3F-4D7D-8CC4-F2F90E48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DBA34-D11C-46FF-9495-4485EA0B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341-F16D-481D-8064-E5AC8050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D2C4C-CF98-4E8C-9DC9-BF632412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B65BE-5810-4155-8575-1AF9530B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FE4E5-F818-4E13-9E99-B0F5FEAD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6D049-1D97-416C-B5F4-EC2CF1B2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723B2-D106-41CA-A1EC-7EE4A8D0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6BE05-BB72-45FE-A4C3-4E125D38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16CDA-9BC4-4106-B3D3-9F24997A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EC2B2-6579-4366-B5B5-0429B88E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06CA6-2389-4013-B39C-6BA9A4EA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18E0B-8F5E-4FE7-9C8B-2FEC5E84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B254-7F6C-4DCC-A83D-26C8C9C6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CC98E-A363-4365-ACE2-A8649308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6D9BB-E2A1-4BC3-83FB-3F2667C2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B07F6-5A18-46D6-BA3F-4AB5B565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D4FC8-42A5-4939-B492-1D93F09C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4BB8A-BEF6-4E8F-A927-256C0011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D83B1-5F7A-4E88-A8EC-12E0159A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AD706-5140-4C72-B1D7-B1523B3B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525FF-5A08-4CD4-BCDF-A900136D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C3C74-4AF8-4CE7-BD87-BE381A5F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BEE32-5F21-4F8A-99CC-E558DF34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6C87-E3B4-42F4-80C1-BCEEEB23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86B38-6F8D-447A-99B1-B6EBA5E4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F9F17-55E7-41F2-A875-8C5948E1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DAA28-DADB-489F-8F5F-D094EA77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33EE8-3ACA-4533-9C5B-A7BD5A8C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F3E3B-2103-4625-A4FC-66457BE0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3215E-EA82-4EC7-9788-6CC478D4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60FD5-2583-4D5C-BB48-77734C6C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D938A4-DC30-4982-BACF-B1CF388D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396252-3C4C-4CB0-92B4-000E439A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DEA6A4-FEAC-4166-85CC-0C6F4B0E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CB9B-8EB8-4A56-89D2-93FAAD5BEAB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750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751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752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756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9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760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6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28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2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30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BAE1-5529-4408-A6ED-E399199E480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834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835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836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840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3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844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7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0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3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3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3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629F-5E27-4DDC-909D-0536DDA2FED5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917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918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919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2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923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6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927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3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34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35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36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0450-35B7-4EF2-8223-3EC8EEF6DE00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F717-A44D-49F1-8311-47C30F7C1EE9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170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174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78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8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9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5733-121A-4400-8DA0-9DC44D34C969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25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5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25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25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26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1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8C5D-D57B-45F9-8D0F-F6633EF2DDAE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334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5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6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0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4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14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C63A-D71C-4086-B507-1D03EDEAF8D3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417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418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419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423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427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7262-38C5-4D31-817C-C96EE0BCCE5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500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501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502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506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510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19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20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2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7BAF-4FF0-4819-86F9-609AA45B696A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583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584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585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589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593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22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3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4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19EC-954A-491B-B8F7-570BB0A69687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666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66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668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672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676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9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2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25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sldNum" idx="26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5409-3FBE-4C67-AC39-A93E7740E1C0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ftr" idx="27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Rectangle 2" descr=""/>
          <p:cNvPicPr/>
          <p:nvPr/>
        </p:nvPicPr>
        <p:blipFill>
          <a:blip r:embed="rId2"/>
          <a:stretch/>
        </p:blipFill>
        <p:spPr>
          <a:xfrm>
            <a:off x="-23760" y="1066680"/>
            <a:ext cx="8783640" cy="3035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Рисунок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9" name="TextBox 6"/>
          <p:cNvSpPr/>
          <p:nvPr/>
        </p:nvSpPr>
        <p:spPr>
          <a:xfrm>
            <a:off x="4000680" y="6013440"/>
            <a:ext cx="50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Исаакиевский соб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Рисунок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3" name="TextBox 6"/>
          <p:cNvSpPr/>
          <p:nvPr/>
        </p:nvSpPr>
        <p:spPr>
          <a:xfrm>
            <a:off x="-130680" y="5533920"/>
            <a:ext cx="551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елка Василье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1045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Рисунок6"/>
          <p:cNvPicPr/>
          <p:nvPr/>
        </p:nvPicPr>
        <p:blipFill>
          <a:blip r:embed="rId2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6"/>
          <p:cNvSpPr/>
          <p:nvPr/>
        </p:nvSpPr>
        <p:spPr>
          <a:xfrm>
            <a:off x="4535640" y="601344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рцовый мо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Рисунок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1" name="TextBox 6"/>
          <p:cNvSpPr/>
          <p:nvPr/>
        </p:nvSpPr>
        <p:spPr>
          <a:xfrm>
            <a:off x="6823080" y="55339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7"/>
          <p:cNvSpPr/>
          <p:nvPr/>
        </p:nvSpPr>
        <p:spPr>
          <a:xfrm>
            <a:off x="5074200" y="6013440"/>
            <a:ext cx="352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Заячий ост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3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Рисунок8"/>
          <p:cNvPicPr/>
          <p:nvPr/>
        </p:nvPicPr>
        <p:blipFill>
          <a:blip r:embed="rId2"/>
          <a:stretch/>
        </p:blipFill>
        <p:spPr>
          <a:xfrm>
            <a:off x="0" y="0"/>
            <a:ext cx="9144000" cy="6954840"/>
          </a:xfrm>
          <a:prstGeom prst="rect">
            <a:avLst/>
          </a:prstGeom>
          <a:ln w="0">
            <a:noFill/>
          </a:ln>
        </p:spPr>
      </p:pic>
      <p:sp>
        <p:nvSpPr>
          <p:cNvPr id="1056" name="TextBox 6"/>
          <p:cNvSpPr/>
          <p:nvPr/>
        </p:nvSpPr>
        <p:spPr>
          <a:xfrm>
            <a:off x="285840" y="600084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Дворцовая площа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9" dur="5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TextBox 4"/>
          <p:cNvSpPr/>
          <p:nvPr/>
        </p:nvSpPr>
        <p:spPr>
          <a:xfrm>
            <a:off x="971640" y="429264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лександрова Марина Геннадьевн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начальных класс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спитатель группы продленного дня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БОУ средней школы №339 Невского р-на Санкт-Петербурга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айт : «Школа АБВ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http://www.shkola-abv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Прямоугольник 4" descr=""/>
          <p:cNvPicPr/>
          <p:nvPr/>
        </p:nvPicPr>
        <p:blipFill>
          <a:blip r:embed="rId1"/>
          <a:stretch/>
        </p:blipFill>
        <p:spPr>
          <a:xfrm>
            <a:off x="2916360" y="2133720"/>
            <a:ext cx="2993760" cy="118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4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3" name="TextBox 4"/>
          <p:cNvSpPr/>
          <p:nvPr/>
        </p:nvSpPr>
        <p:spPr>
          <a:xfrm>
            <a:off x="3949560" y="785880"/>
            <a:ext cx="4790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Если скажут слово «Род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Сразу в памяти вс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Старый дом , в саду сморо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Толстый тополь у во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У реки березка-скром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И ромашковый бугор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( З.Александро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8200"/>
            </a:gs>
            <a:gs pos="100000">
              <a:srgbClr val="94c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Rectangle 2" descr=""/>
          <p:cNvPicPr/>
          <p:nvPr/>
        </p:nvPicPr>
        <p:blipFill>
          <a:blip r:embed="rId1"/>
          <a:stretch/>
        </p:blipFill>
        <p:spPr>
          <a:xfrm>
            <a:off x="1805040" y="1047600"/>
            <a:ext cx="5095800" cy="1738440"/>
          </a:xfrm>
          <a:prstGeom prst="rect">
            <a:avLst/>
          </a:prstGeom>
          <a:ln w="0">
            <a:noFill/>
          </a:ln>
        </p:spPr>
      </p:pic>
      <p:sp>
        <p:nvSpPr>
          <p:cNvPr id="1005" name="Text Box 5"/>
          <p:cNvSpPr/>
          <p:nvPr/>
        </p:nvSpPr>
        <p:spPr>
          <a:xfrm>
            <a:off x="3219480" y="538200"/>
            <a:ext cx="4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Text Box 7" descr=""/>
          <p:cNvPicPr/>
          <p:nvPr/>
        </p:nvPicPr>
        <p:blipFill>
          <a:blip r:embed="rId2"/>
          <a:stretch/>
        </p:blipFill>
        <p:spPr>
          <a:xfrm>
            <a:off x="7534440" y="476280"/>
            <a:ext cx="1493640" cy="1322280"/>
          </a:xfrm>
          <a:prstGeom prst="rect">
            <a:avLst/>
          </a:prstGeom>
          <a:ln w="0">
            <a:noFill/>
          </a:ln>
        </p:spPr>
      </p:pic>
      <p:pic>
        <p:nvPicPr>
          <p:cNvPr id="1007" name="Text Box 8" descr=""/>
          <p:cNvPicPr/>
          <p:nvPr/>
        </p:nvPicPr>
        <p:blipFill>
          <a:blip r:embed="rId3"/>
          <a:stretch/>
        </p:blipFill>
        <p:spPr>
          <a:xfrm>
            <a:off x="2023920" y="4346640"/>
            <a:ext cx="4980240" cy="1431720"/>
          </a:xfrm>
          <a:prstGeom prst="rect">
            <a:avLst/>
          </a:prstGeom>
          <a:ln w="0">
            <a:noFill/>
          </a:ln>
        </p:spPr>
      </p:pic>
      <p:pic>
        <p:nvPicPr>
          <p:cNvPr id="1008" name="Text Box 9" descr=""/>
          <p:cNvPicPr/>
          <p:nvPr/>
        </p:nvPicPr>
        <p:blipFill>
          <a:blip r:embed="rId4"/>
          <a:stretch/>
        </p:blipFill>
        <p:spPr>
          <a:xfrm>
            <a:off x="7418520" y="2908440"/>
            <a:ext cx="1616040" cy="1431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3 0.0044 C -0.21215 -0.03264 -0.33715 -0.06945 -0.39913 -0.04537 C -0.46094 -0.0213 -0.46059 0.06389 -0.45972 0.14977 E">
                                      <p:cBhvr>
                                        <p:cTn id="31" dur="3000" fill="hold"/>
                                        <p:tgtEl>
                                          <p:spTgt spid="10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81481E-006 C -0.20347 -0.04375 -0.40607 -0.08727 -0.48576 -0.05232 C -0.5651 -0.01737 -0.48055 0.16574 -0.47934 0.21064 E">
                                      <p:cBhvr>
                                        <p:cTn id="40" dur="3000" fill="hold"/>
                                        <p:tgtEl>
                                          <p:spTgt spid="10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1010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4" descr="Рисунок1"/>
          <p:cNvPicPr/>
          <p:nvPr/>
        </p:nvPicPr>
        <p:blipFill>
          <a:blip r:embed="rId2"/>
          <a:stretch/>
        </p:blipFill>
        <p:spPr>
          <a:xfrm>
            <a:off x="-928800" y="-101520"/>
            <a:ext cx="10765080" cy="74548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012" name="Line 5"/>
          <p:cNvSpPr/>
          <p:nvPr/>
        </p:nvSpPr>
        <p:spPr>
          <a:xfrm flipH="1" flipV="1">
            <a:off x="856800" y="3428640"/>
            <a:ext cx="3071880" cy="25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6"/>
          <p:cNvSpPr/>
          <p:nvPr/>
        </p:nvSpPr>
        <p:spPr>
          <a:xfrm>
            <a:off x="5148360" y="551664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Text Box 7" descr=""/>
          <p:cNvPicPr/>
          <p:nvPr/>
        </p:nvPicPr>
        <p:blipFill>
          <a:blip r:embed="rId3"/>
          <a:stretch/>
        </p:blipFill>
        <p:spPr>
          <a:xfrm>
            <a:off x="3560760" y="5315040"/>
            <a:ext cx="3535200" cy="1195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4" descr="Рисунок2"/>
          <p:cNvPicPr/>
          <p:nvPr/>
        </p:nvPicPr>
        <p:blipFill>
          <a:blip r:embed="rId2"/>
          <a:stretch/>
        </p:blipFill>
        <p:spPr>
          <a:xfrm>
            <a:off x="826920" y="1268280"/>
            <a:ext cx="3281400" cy="21877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5" descr="Рисунок3"/>
          <p:cNvPicPr/>
          <p:nvPr/>
        </p:nvPicPr>
        <p:blipFill>
          <a:blip r:embed="rId3"/>
          <a:stretch/>
        </p:blipFill>
        <p:spPr>
          <a:xfrm>
            <a:off x="5148360" y="549360"/>
            <a:ext cx="2898720" cy="3429000"/>
          </a:xfrm>
          <a:prstGeom prst="rect">
            <a:avLst/>
          </a:prstGeom>
          <a:ln w="0">
            <a:noFill/>
          </a:ln>
        </p:spPr>
      </p:pic>
      <p:pic>
        <p:nvPicPr>
          <p:cNvPr id="1018" name="Text Box 6" descr=""/>
          <p:cNvPicPr/>
          <p:nvPr/>
        </p:nvPicPr>
        <p:blipFill>
          <a:blip r:embed="rId4"/>
          <a:stretch/>
        </p:blipFill>
        <p:spPr>
          <a:xfrm>
            <a:off x="1822320" y="4645080"/>
            <a:ext cx="2176560" cy="665280"/>
          </a:xfrm>
          <a:prstGeom prst="rect">
            <a:avLst/>
          </a:prstGeom>
          <a:ln w="0">
            <a:noFill/>
          </a:ln>
        </p:spPr>
      </p:pic>
      <p:pic>
        <p:nvPicPr>
          <p:cNvPr id="1019" name="Text Box 7" descr=""/>
          <p:cNvPicPr/>
          <p:nvPr/>
        </p:nvPicPr>
        <p:blipFill>
          <a:blip r:embed="rId5"/>
          <a:stretch/>
        </p:blipFill>
        <p:spPr>
          <a:xfrm>
            <a:off x="5705640" y="4614840"/>
            <a:ext cx="1280880" cy="669960"/>
          </a:xfrm>
          <a:prstGeom prst="rect">
            <a:avLst/>
          </a:prstGeom>
          <a:ln w="0">
            <a:noFill/>
          </a:ln>
        </p:spPr>
      </p:pic>
      <p:pic>
        <p:nvPicPr>
          <p:cNvPr id="1020" name="Text Box 8" descr=""/>
          <p:cNvPicPr/>
          <p:nvPr/>
        </p:nvPicPr>
        <p:blipFill>
          <a:blip r:embed="rId6"/>
          <a:stretch/>
        </p:blipFill>
        <p:spPr>
          <a:xfrm>
            <a:off x="7796160" y="3992400"/>
            <a:ext cx="793800" cy="676440"/>
          </a:xfrm>
          <a:prstGeom prst="rect">
            <a:avLst/>
          </a:prstGeom>
          <a:ln w="0">
            <a:noFill/>
          </a:ln>
        </p:spPr>
      </p:pic>
      <p:pic>
        <p:nvPicPr>
          <p:cNvPr id="1021" name="Text Box 9" descr=""/>
          <p:cNvPicPr/>
          <p:nvPr/>
        </p:nvPicPr>
        <p:blipFill>
          <a:blip r:embed="rId7"/>
          <a:stretch/>
        </p:blipFill>
        <p:spPr>
          <a:xfrm>
            <a:off x="3621240" y="3925800"/>
            <a:ext cx="731520" cy="669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046 C -0.0507 -0.0169 -0.10139 -0.03403 -0.11684 -0.0169 C -0.13229 0.000459999999999999 -0.1132 0.05254 -0.09393 0.10486 E">
                                      <p:cBhvr>
                                        <p:cTn id="76" dur="2000" fill="hold"/>
                                        <p:tgtEl>
                                          <p:spTgt spid="10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96296E-006 C -0.04531 -0.01875 -0.08993 -0.03611 -0.11163 -0.02245 C -0.13298 -0.0081 -0.13246 0.03982 -0.13125 0.08889 E">
                                      <p:cBhvr>
                                        <p:cTn id="94" dur="2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3"/>
          <p:cNvSpPr/>
          <p:nvPr/>
        </p:nvSpPr>
        <p:spPr>
          <a:xfrm>
            <a:off x="639720" y="1928880"/>
            <a:ext cx="807552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 u="sng">
                <a:solidFill>
                  <a:srgbClr val="0000ff"/>
                </a:solidFill>
                <a:uFillTx/>
                <a:latin typeface="Century Gothic"/>
              </a:rPr>
              <a:t>С</a:t>
            </a:r>
            <a:r>
              <a:rPr b="0" lang="ru-RU" sz="6600" spc="-1" strike="noStrike">
                <a:solidFill>
                  <a:srgbClr val="0000ff"/>
                </a:solidFill>
                <a:latin typeface="Century Gothic"/>
              </a:rPr>
              <a:t>анкт-</a:t>
            </a:r>
            <a:r>
              <a:rPr b="0" lang="ru-RU" sz="11500" spc="-1" strike="noStrike" u="sng">
                <a:solidFill>
                  <a:srgbClr val="0000ff"/>
                </a:solidFill>
                <a:uFillTx/>
                <a:latin typeface="Century Gothic"/>
              </a:rPr>
              <a:t>П</a:t>
            </a:r>
            <a:r>
              <a:rPr b="0" lang="ru-RU" sz="6600" spc="-1" strike="noStrike">
                <a:solidFill>
                  <a:srgbClr val="0000ff"/>
                </a:solidFill>
                <a:latin typeface="Century Gothic"/>
              </a:rPr>
              <a:t>етербур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3" name="11.wma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10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7" name="Rectangle 6"/>
          <p:cNvSpPr/>
          <p:nvPr/>
        </p:nvSpPr>
        <p:spPr>
          <a:xfrm>
            <a:off x="357120" y="592920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Петропавловская креп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Рисунок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1" name="TextBox 6"/>
          <p:cNvSpPr/>
          <p:nvPr/>
        </p:nvSpPr>
        <p:spPr>
          <a:xfrm>
            <a:off x="5757840" y="5929200"/>
            <a:ext cx="245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Река Н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5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Рисунок3"/>
          <p:cNvPicPr/>
          <p:nvPr/>
        </p:nvPicPr>
        <p:blipFill>
          <a:blip r:embed="rId2"/>
          <a:stretch/>
        </p:blipFill>
        <p:spPr>
          <a:xfrm>
            <a:off x="-30240" y="-23760"/>
            <a:ext cx="9204480" cy="6907320"/>
          </a:xfrm>
          <a:prstGeom prst="rect">
            <a:avLst/>
          </a:prstGeom>
          <a:ln w="0">
            <a:noFill/>
          </a:ln>
        </p:spPr>
      </p:pic>
      <p:sp>
        <p:nvSpPr>
          <p:cNvPr id="1035" name="TextBox 6"/>
          <p:cNvSpPr/>
          <p:nvPr/>
        </p:nvSpPr>
        <p:spPr>
          <a:xfrm>
            <a:off x="4929120" y="6013440"/>
            <a:ext cx="360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Зимний двор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09:43:42Z</dcterms:created>
  <dc:creator>Леша</dc:creator>
  <dc:description/>
  <dc:language>en-US</dc:language>
  <cp:lastModifiedBy>Boris</cp:lastModifiedBy>
  <dcterms:modified xsi:type="dcterms:W3CDTF">2013-10-18T15:32:51Z</dcterms:modified>
  <cp:revision>31</cp:revision>
  <dc:subject/>
  <dc:title>Тема: Что мы знаем о нашей стране и о нашем городе?</dc:title>
</cp:coreProperties>
</file>